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D41-9BA6-4A69-B9CF-F9D7337A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B36-BBD8-436B-954E-34D59E27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8BE-8325-4225-8796-4284390A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267-44DC-4833-8C33-7E21A7C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2167-3FB8-4308-87F1-7FDAF5BF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296-1F91-49E6-9309-C58B13DB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F749-7B11-4049-9653-F1E6E4A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014-8B62-4EEF-9451-CFD737C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8EB2-F265-4881-8AE1-B0EBBBD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DBE-3757-4D77-A6AC-CF5C885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703A-4BB2-4919-9B52-EFE16FE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A0C-9957-4785-AF7B-326AE21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BC3A-9A77-4CE3-BA08-1720EF9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3A7-5697-4CA2-AEE3-40E0956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D018-C817-4415-8870-28A66E3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4D2-0B96-4F40-B592-78B5637D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6EB-38EA-41CF-923B-5CCFE85A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8931-54AB-4652-B8A3-CC38A3F4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61CE-E4C0-46FF-90C7-C7EBB84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B4EF-317D-4481-AE82-9B064EDD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760A-09F7-4EB2-88D8-1C37F6D3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572C-1054-4950-A4AE-9E06CF6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7EC-680D-46DE-A87E-7E95827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53BC-CC6E-4ACC-97E6-10AE4F4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6538-6D90-4127-8178-0C45005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2AC5-B97E-4CEC-B95C-2B60AE4C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7130-3073-4EB0-B8B0-AC88707F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F953-84C4-4DE7-9E1E-E650E004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6F16-921C-427E-ADF8-623B95F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5CDD-BA8C-4F8F-BED3-7851FC2C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5175-425C-4012-ACCE-4B28B08C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3FDF-6407-4194-9251-C1FFA03A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345D-11C4-42BF-87B9-F7F9978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ECB-6BAC-447F-974E-90FFEEF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E1F0-0FE1-4644-8E4C-65732B3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38BD-7ABC-422D-BB05-C3C20ED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A372-F269-49F1-B839-2C12AFA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1FEF-F935-46C2-8021-B2CB0B6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2B7F-E01E-4262-B700-849C40C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9EA5-3238-4CFB-A819-A886EEE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31B2-AB48-45E4-A618-C9CC6770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C982-9798-4900-BBFC-C43D2766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3FA0-8439-4D9C-8158-1A4B6C24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4A4B2-ED67-4556-8B55-444059C6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3B2-B1B2-43EC-B99F-64F933DB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E762-0DD6-4EC8-A7E9-EF7C909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74EB-948F-479E-B78A-CEB15771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6755-4C59-4101-837B-A4A9C523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7EAA-E5D1-427E-8D12-90D5A86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5A072-76BC-4DE8-A82B-854AC7D2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54532-5E09-4B07-820C-D9DC6084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FA3F-1ED9-4CC6-BD8B-EB7BD48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496F-1FA3-4ED9-8A3F-E2C62C7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9A21-51A8-481E-BCE8-1E6B6B71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C937-0562-4EE7-825D-96007125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E89-1C8A-469E-9648-BF117B9F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D733-3880-4B79-9803-0212DCA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5F52-BFF1-4133-8D91-C4C07109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0237-5B53-4F14-BD20-38F1625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D88F-9304-467A-B84C-47D52E75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120D-74FA-416D-A652-1FE8680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E5BD9-4394-47FE-A6F6-AF81DE5A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AA29E-5C8E-4C89-862C-A745E11E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8FA1-28A2-492D-A3AA-4331F84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BBBA-7C0D-4467-8A51-B0601DF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BC704-8700-46A0-99E5-76108C8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E90-1818-4FAC-9CC9-D2FF73DD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79A7-1977-4CBE-9074-4B32314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D04F-E3B5-468B-8544-10647891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ED9A-2FF8-4628-BC0F-A9A67324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724-B3C0-409C-B881-C216FC0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0F8-65A3-4654-8EA9-14A6FF3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AE76-A699-4935-9BC3-32C5129172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70CD-6019-4E6D-B123-6FE26270C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82A7-080B-4CED-AB36-205FD7B8C7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B8C-7B23-4785-A71F-F835BE640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0A6E-677A-4584-B9F2-B436003099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ACB5-914B-417D-9741-911BCA205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579600" y="1047600"/>
            <a:ext cx="8283240" cy="32385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 rot="841800">
            <a:off x="791640" y="36669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4e7ed"/>
                </a:solidFill>
                <a:latin typeface="Lucida Sans Unicode"/>
              </a:rPr>
              <a:t>By: Naguib Mahfouz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78" name="Picture 12" descr="aten.jpg"/>
          <p:cNvPicPr/>
          <p:nvPr/>
        </p:nvPicPr>
        <p:blipFill>
          <a:blip r:embed="rId2"/>
          <a:stretch/>
        </p:blipFill>
        <p:spPr>
          <a:xfrm>
            <a:off x="457200" y="533520"/>
            <a:ext cx="23652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 rot="21427200">
            <a:off x="458640" y="144252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Ancient Egyptian name, ‘Egypt’, is Kemet which means “black land” because of the fertile black soil of the Nil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Egypt is transcontinental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Egypt has one of the most developed and diversified economies in the Middle Eas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79 million people live in Egypt. The vast majority of them live near the Nil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176040" y="12600"/>
            <a:ext cx="8547120" cy="167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 rot="21267600"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New Kingdom (1550-1070BC) began with the 18</a:t>
            </a:r>
            <a:r>
              <a:rPr b="0" lang="en-US" sz="2700" spc="-1" strike="noStrike" baseline="30000">
                <a:solidFill>
                  <a:srgbClr val="ffffff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dynasty. Some of the most well known pharaohs ruled then. Hatshepsut, Thutmose the third, Akhenaten, and king Tu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term ‘pharaoh’ started being used for the king during the New Kingdom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haraoh means “Great House”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2" name="Title 2" descr=""/>
          <p:cNvPicPr/>
          <p:nvPr/>
        </p:nvPicPr>
        <p:blipFill>
          <a:blip r:embed="rId1"/>
          <a:stretch/>
        </p:blipFill>
        <p:spPr>
          <a:xfrm>
            <a:off x="182520" y="73080"/>
            <a:ext cx="8534520" cy="15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308px-Pharaoh_svg.png"/>
          <p:cNvPicPr/>
          <p:nvPr/>
        </p:nvPicPr>
        <p:blipFill>
          <a:blip r:embed="rId2"/>
          <a:stretch/>
        </p:blipFill>
        <p:spPr>
          <a:xfrm>
            <a:off x="6095880" y="3603600"/>
            <a:ext cx="167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Nemes is a royal headdress worn by pharaohs. It was a piece of cloth that covered the crown, wig, and went down on the shoulders and back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A Shendyt was an apron that went around the kings wais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449px-tutmask-1.jpg"/>
          <p:cNvPicPr/>
          <p:nvPr/>
        </p:nvPicPr>
        <p:blipFill>
          <a:blip r:embed="rId2"/>
          <a:stretch/>
        </p:blipFill>
        <p:spPr>
          <a:xfrm>
            <a:off x="7086600" y="152280"/>
            <a:ext cx="1333440" cy="1779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220px-GeneralTjahapimu-StatueTorso_MetropolitanMuseum.png"/>
          <p:cNvPicPr/>
          <p:nvPr/>
        </p:nvPicPr>
        <p:blipFill>
          <a:blip r:embed="rId3"/>
          <a:stretch/>
        </p:blipFill>
        <p:spPr>
          <a:xfrm>
            <a:off x="5715000" y="4114800"/>
            <a:ext cx="905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ost people wore shirts, tunics, sashes, and kilts made of wool or animal ski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Women usually wore dresses with straps and men wore a short loincloth kil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y went barefoot most of the time, but if they did wear shoes they were made of leather and were like flipflop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pic>
        <p:nvPicPr>
          <p:cNvPr id="290" name="Picture 3" descr="egypt_man.jpg"/>
          <p:cNvPicPr/>
          <p:nvPr/>
        </p:nvPicPr>
        <p:blipFill>
          <a:blip r:embed="rId1"/>
          <a:stretch/>
        </p:blipFill>
        <p:spPr>
          <a:xfrm>
            <a:off x="6019920" y="4191120"/>
            <a:ext cx="1233360" cy="2438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egypt_5.jpg"/>
          <p:cNvPicPr/>
          <p:nvPr/>
        </p:nvPicPr>
        <p:blipFill>
          <a:blip r:embed="rId2"/>
          <a:stretch/>
        </p:blipFill>
        <p:spPr>
          <a:xfrm>
            <a:off x="914400" y="4724280"/>
            <a:ext cx="158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Girls usually married around the age of 12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mother cooked, cleaned, and watched the childr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o Egyptians, children were a great blessing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their families had enough money, they would send their son to school. Their daughters could be taught at home. Some even become doctor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you had a lot of children people would think you had a greater incom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If a woman was convicted of a crime and was to be executed, the government couldn’t kill her if she was pregnant. If she wasn’t, they’d kill her anyway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nce most people lived near the Nile and it was difficult to raise livestock, they ate fish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Because of the fertile soil Egyptians grew a lot of whea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Bread and beer was what they usually ate with their meal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Vegetables, figs, and dates were very popular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Grapes were well liked for those who could afford it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FST6CAW65SVKCA690GCVCA5GODI1CACDXFIQCA5SSBIWCAWK15CHCARREATNCATQ2ELNCAVRO5EICA2YPLE9CAJWMZ9ICAK5G52KCAMZAYRTCA3HI0N3CAF10DUNCAP5GETICAHYHQF4CA3OW778CAACPCAI.jpg"/>
          <p:cNvPicPr/>
          <p:nvPr/>
        </p:nvPicPr>
        <p:blipFill>
          <a:blip r:embed="rId2"/>
          <a:stretch/>
        </p:blipFill>
        <p:spPr>
          <a:xfrm>
            <a:off x="4952880" y="5181480"/>
            <a:ext cx="1925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www.eternalegypt.org/EternalEgyptWebsiteWeb/HomeServlet?ee_website_action_key=action.display.home&amp;language_id=1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en.wikipedia.org/wiki/Egypt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http://www.ancient-egypt-online.com/ancient-egyptian-food.htm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17:43Z</dcterms:created>
  <dc:creator>953980</dc:creator>
  <dc:description/>
  <dc:language>en-US</dc:language>
  <cp:lastModifiedBy>953980</cp:lastModifiedBy>
  <dcterms:modified xsi:type="dcterms:W3CDTF">2010-11-05T18:56:06Z</dcterms:modified>
  <cp:revision>16</cp:revision>
  <dc:subject/>
  <dc:title>Akhenaten, Dweller in Truth</dc:title>
</cp:coreProperties>
</file>